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E9525-621F-48E1-B36B-689EC6193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8342A-D89A-4384-A46D-9703E3AC8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A755F-1BD9-447E-9EE0-99A62A374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1A2C8-C978-4E1D-A449-E12AE3E35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4CB55-0D27-48CC-A0E7-5BFE6A1BE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D74EB-2F68-422A-B9AE-ADC872EFB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54577-D2B3-48CD-9F2B-C3C0710EB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AA222-A330-4829-B5E9-1116375EF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1A825-3296-4C17-8D8A-F835EF219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DBBD5-DB1B-483B-9396-1F698E32F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F302E-81F9-45EE-AE93-8D6432D9B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6B36E-BCFA-40BC-B39C-FA101B60B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380F0-E0A4-4EE6-87D0-94EF97B2B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D7E31-A21A-41D5-950C-D8B42B7C2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18438-C0B6-4D93-89F0-263065E18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21E5D-C667-42D8-8FB2-21B34C5F5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8590B-CE6B-4044-9AAA-CBCAC6479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9F843-79CA-46FF-80F4-DD60C3AAF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CE27D-DAB9-42A6-AFCD-CD19F5AF8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28796-1051-4ABD-B989-E61C1989B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4E83F-3345-4E88-9AA3-4D82218A2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1D272-E9F3-456C-805F-41CBCE01F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091BB-A35F-46C5-B874-53A2DA419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4F1DB-42E7-4CD0-9549-E93BDCB13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A5C2-3664-459C-8091-AA102060CC0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21EE4-9A7A-4914-B89C-8E8D3E35B15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62120"/>
            <a:ext cx="9144000" cy="35049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Trebuchet MS"/>
              </a:rPr>
              <a:t>Immigration Defines America</a:t>
            </a:r>
            <a:br>
              <a:rPr sz="4800"/>
            </a:br>
            <a:br>
              <a:rPr sz="4800"/>
            </a:br>
            <a:r>
              <a:rPr b="1" i="1" lang="en-US" sz="4400" spc="-1" strike="noStrike">
                <a:solidFill>
                  <a:srgbClr val="b9efee"/>
                </a:solidFill>
                <a:latin typeface="Trebuchet MS"/>
              </a:rPr>
              <a:t>A Project-Based Learning Showcase Presentation</a:t>
            </a:r>
            <a:br>
              <a:rPr sz="4800"/>
            </a:br>
            <a:endParaRPr b="1" lang="en-US" sz="4400" spc="-1" strike="noStrike">
              <a:solidFill>
                <a:srgbClr val="b9efee"/>
              </a:solidFill>
              <a:latin typeface="Garamond"/>
            </a:endParaRPr>
          </a:p>
        </p:txBody>
      </p:sp>
      <p:sp>
        <p:nvSpPr>
          <p:cNvPr id="115" name="PlaceHolder 2"/>
          <p:cNvSpPr>
            <a:spLocks noGrp="1"/>
          </p:cNvSpPr>
          <p:nvPr>
            <p:ph type="subTitle"/>
          </p:nvPr>
        </p:nvSpPr>
        <p:spPr>
          <a:xfrm>
            <a:off x="533160" y="5105160"/>
            <a:ext cx="8305560" cy="15238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rebuchet MS"/>
              </a:rPr>
              <a:t>Juan Tejeda, Kerry Burkhard, Yazmin Salcedo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rebuchet MS"/>
              </a:rPr>
              <a:t>Salvatore Cordo, Lupe Padron, Mike Nisevich</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une 7, 2008</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360"/>
            <a:ext cx="8229600" cy="716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Trebuchet MS"/>
              </a:rPr>
              <a:t>Technology</a:t>
            </a:r>
            <a:endParaRPr b="1" lang="en-US" sz="4400" spc="-1" strike="noStrike">
              <a:solidFill>
                <a:srgbClr val="b9efee"/>
              </a:solidFill>
              <a:latin typeface="Garamond"/>
            </a:endParaRPr>
          </a:p>
        </p:txBody>
      </p:sp>
      <p:sp>
        <p:nvSpPr>
          <p:cNvPr id="135" name="PlaceHolder 2"/>
          <p:cNvSpPr>
            <a:spLocks noGrp="1"/>
          </p:cNvSpPr>
          <p:nvPr>
            <p:ph/>
          </p:nvPr>
        </p:nvSpPr>
        <p:spPr>
          <a:xfrm>
            <a:off x="0" y="762120"/>
            <a:ext cx="9144000" cy="533376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nvestigation</a:t>
            </a:r>
            <a:endParaRPr b="0" lang="en-US" sz="3200" spc="-1" strike="noStrike">
              <a:solidFill>
                <a:srgbClr val="ffffff"/>
              </a:solidFill>
              <a:latin typeface="Garamond"/>
            </a:endParaRPr>
          </a:p>
          <a:p>
            <a:pPr lvl="1" marL="727920" indent="-280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V, DVR &amp; VCR to watch films &amp; documentaries</a:t>
            </a:r>
            <a:endParaRPr b="0" lang="en-US" sz="2800" spc="-1" strike="noStrike">
              <a:solidFill>
                <a:srgbClr val="ffffff"/>
              </a:solidFill>
              <a:latin typeface="Garamond"/>
            </a:endParaRPr>
          </a:p>
          <a:p>
            <a:pPr lvl="1" marL="727920" indent="-280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adio, cassette &amp; CDs to listen to recorded media</a:t>
            </a:r>
            <a:endParaRPr b="0" lang="en-US" sz="2800" spc="-1" strike="noStrike">
              <a:solidFill>
                <a:srgbClr val="ffffff"/>
              </a:solidFill>
              <a:latin typeface="Garamond"/>
            </a:endParaRPr>
          </a:p>
          <a:p>
            <a:pPr lvl="1" marL="727920" indent="-280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C for research, for audio or to watch videos</a:t>
            </a:r>
            <a:endParaRPr b="0" lang="en-US" sz="2800" spc="-1" strike="noStrike">
              <a:solidFill>
                <a:srgbClr val="ffffff"/>
              </a:solidFill>
              <a:latin typeface="Garamond"/>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nSpc>
                <a:spcPct val="9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splay</a:t>
            </a:r>
            <a:endParaRPr b="0" lang="en-US" sz="3200" spc="-1" strike="noStrike">
              <a:solidFill>
                <a:srgbClr val="ffffff"/>
              </a:solidFill>
              <a:latin typeface="Garamond"/>
            </a:endParaRPr>
          </a:p>
          <a:p>
            <a:pPr lvl="1" marL="727920" indent="-280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ransparency overhead projectors to display materials</a:t>
            </a:r>
            <a:endParaRPr b="0" lang="en-US" sz="2800" spc="-1" strike="noStrike">
              <a:solidFill>
                <a:srgbClr val="ffffff"/>
              </a:solidFill>
              <a:latin typeface="Garamond"/>
            </a:endParaRPr>
          </a:p>
          <a:p>
            <a:pPr lvl="1" marL="727920" indent="-280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paque projector to displays photos</a:t>
            </a:r>
            <a:endParaRPr b="0" lang="en-US" sz="2800" spc="-1" strike="noStrike">
              <a:solidFill>
                <a:srgbClr val="ffffff"/>
              </a:solidFill>
              <a:latin typeface="Garamond"/>
            </a:endParaRPr>
          </a:p>
          <a:p>
            <a:pPr lvl="1" marL="727920" indent="-280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eb cams, cell phones et al</a:t>
            </a:r>
            <a:endParaRPr b="0" lang="en-US" sz="2800" spc="-1" strike="noStrike">
              <a:solidFill>
                <a:srgbClr val="ffffff"/>
              </a:solidFill>
              <a:latin typeface="Garamond"/>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Ongoing Self Assessment</a:t>
            </a:r>
            <a:endParaRPr b="1" lang="en-US" sz="4000" spc="-1" strike="noStrike">
              <a:solidFill>
                <a:srgbClr val="b9efee"/>
              </a:solidFill>
              <a:latin typeface="Garamond"/>
            </a:endParaRPr>
          </a:p>
        </p:txBody>
      </p:sp>
      <p:graphicFrame>
        <p:nvGraphicFramePr>
          <p:cNvPr id="137" name=""/>
          <p:cNvGraphicFramePr/>
          <p:nvPr/>
        </p:nvGraphicFramePr>
        <p:xfrm>
          <a:off x="0" y="439560"/>
          <a:ext cx="9144000" cy="6353280"/>
        </p:xfrm>
        <a:graphic>
          <a:graphicData uri="http://schemas.openxmlformats.org/drawingml/2006/table">
            <a:tbl>
              <a:tblPr/>
              <a:tblGrid>
                <a:gridCol w="1295280"/>
                <a:gridCol w="7848720"/>
              </a:tblGrid>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Categor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Responsibiliti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Cooperatio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exhibited Habit #4: Synergize. I thought win-win (showing high courage and high consideration), thus thinking “we” not “me”</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exhibited Habit #5: I listened to understand, not to reply.</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exhibited Habit #6: I believed in third alternatives.</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was present and on time for every group meeting or practic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Background Research</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asked my parents and other relatives about our family history</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used a variety of objective resources: textbooks, internet, videos, etc.</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correctly cited all information and sources</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used enough materials and resources to make my project’s topic better, more understandable and complet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Gathering of family histor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brought in photos or scanned copies to share.</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gathered other paraphernalia necessary to discuss immigration and tolerance issu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Carniv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brought family recipes from my homeland, dress, and other props that represent my homeland.</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participated with my group, fielding questions posed during the carniv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Relating topic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am able to discuss immigration trends from a historic perspective</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am able to correlate recent immigration tensions to opinions and conditions of today and other times</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attempt to understand and admire cultural differences of students and faculty to look at other students and faculty</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can articulate a reasonable argument to counter the xenophobic trends in the U.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639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Asssessment:  Peers</a:t>
            </a:r>
            <a:endParaRPr b="1" lang="en-US" sz="4000" spc="-1" strike="noStrike">
              <a:solidFill>
                <a:srgbClr val="b9efee"/>
              </a:solidFill>
              <a:latin typeface="Garamond"/>
            </a:endParaRPr>
          </a:p>
        </p:txBody>
      </p:sp>
      <p:graphicFrame>
        <p:nvGraphicFramePr>
          <p:cNvPr id="139" name=""/>
          <p:cNvGraphicFramePr/>
          <p:nvPr/>
        </p:nvGraphicFramePr>
        <p:xfrm>
          <a:off x="0" y="685800"/>
          <a:ext cx="9144000" cy="6172200"/>
        </p:xfrm>
        <a:graphic>
          <a:graphicData uri="http://schemas.openxmlformats.org/drawingml/2006/table">
            <a:tbl>
              <a:tblPr/>
              <a:tblGrid>
                <a:gridCol w="1295280"/>
                <a:gridCol w="1524240"/>
                <a:gridCol w="1752480"/>
                <a:gridCol w="1676520"/>
                <a:gridCol w="2286000"/>
                <a:gridCol w="609480"/>
              </a:tblGrid>
              <a:tr h="290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r h="100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Cooperat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work with the group, and showed little effor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worked with the group, but wasn't a key contributor.</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worked well with the group, and was prompt for meeting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demonstrated leadership within the group, and was prompt for all meeting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____</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06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Background Research</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provided little research and didn't cite i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Provided research, but cited it incorrectly.</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provided research, and cited it correctly.</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provided research, citied it correctly, and helped make project more understandable.</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____</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066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Gathering of Family History</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didn't provide much family history.</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provided family history, but it was unorganized.</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provided a family history that was clear and organized.</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provided a clearly organized family history, and provided pictures of the family for display.</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____</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389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Multicultural Day Carnival</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didn't bring a traditional dish or additional informat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brought in traditional dish, but lacked additional informat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brought traditional dish and valuable additional informat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brought in tradtional dish, valuable additional information, and dressed in traditional garb for the projec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____</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06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Relating Topic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didn't grasp concept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made effort to understand concepts, but still didn't grasp concept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understands concepts of the projec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understands concepts of the project, and is able to discuss the concepts with other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____</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89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Tota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____</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360"/>
            <a:ext cx="8001000" cy="639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Asssessment: Teacher</a:t>
            </a:r>
            <a:endParaRPr b="1" lang="en-US" sz="4000" spc="-1" strike="noStrike">
              <a:solidFill>
                <a:srgbClr val="b9efee"/>
              </a:solidFill>
              <a:latin typeface="Garamond"/>
            </a:endParaRPr>
          </a:p>
        </p:txBody>
      </p:sp>
      <p:graphicFrame>
        <p:nvGraphicFramePr>
          <p:cNvPr id="141" name=""/>
          <p:cNvGraphicFramePr/>
          <p:nvPr/>
        </p:nvGraphicFramePr>
        <p:xfrm>
          <a:off x="76320" y="609480"/>
          <a:ext cx="9067680" cy="6429600"/>
        </p:xfrm>
        <a:graphic>
          <a:graphicData uri="http://schemas.openxmlformats.org/drawingml/2006/table">
            <a:tbl>
              <a:tblPr/>
              <a:tblGrid>
                <a:gridCol w="1447560"/>
                <a:gridCol w="1447920"/>
                <a:gridCol w="1447920"/>
                <a:gridCol w="1676160"/>
                <a:gridCol w="2102040"/>
                <a:gridCol w="946080"/>
              </a:tblGrid>
              <a:tr h="261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 </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1</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2</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3</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4</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 </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r h="1265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Approach To The Problem</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Unable to generate any strategies to solve the problem.</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Begins, but fails to complete the problem.</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Begins in a reasonable way, but doesn't finish or leaves out important parts of the solution.</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Clear organized method. The method and equations can stand alone.</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____</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098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Demonstrate</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Knowledge</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Response shows a complete lack of understanding for the problem.</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Response shows some understanding of the problem.</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Shows substantial understanding of the problem, ideas, and processe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Shows complete understanding of the questions, ideas, and processe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____</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6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Supporting Detail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Includes no supporting detail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Includes some supporting detail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Includes most supporting detail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Includes all supporting detail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____</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63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Completion of Required Section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More than three required sections are missing.</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2 or 3 required sections are missing.</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One required section is missing.</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All required sections are complete.</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____</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63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Preparation (Presentation) Obvious that:</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No preparation was used.</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Some preparation was used.</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Above average preparation was used.</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Great deal of preparation was used.</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____</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30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Teamwork</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Little, or no cooperation between team member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One member solely represents the team.</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Several team members participate.</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Teamwork is evident throughout debate with full participation of all member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____</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63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Understanding Of Purpose Demonstrate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No understanding of purpose.</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Some understanding of purpose.</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General understanding of purpose.</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Clear understanding of purpose.</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____</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 </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 </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 </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 </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Total:-----</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____</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Culminating Activity</a:t>
            </a:r>
            <a:endParaRPr b="1" lang="en-US" sz="4000" spc="-1" strike="noStrike">
              <a:solidFill>
                <a:srgbClr val="b9efee"/>
              </a:solidFill>
              <a:latin typeface="Garamond"/>
            </a:endParaRPr>
          </a:p>
        </p:txBody>
      </p:sp>
      <p:sp>
        <p:nvSpPr>
          <p:cNvPr id="14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isplays of:</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ortant contributions made by first-generation immigrants by ethnicity (e.g., Einstein, von Braun, etc.)</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Food and cultural contributions of immigrants by ethnicity adopted by Americans</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ral histories, both from family members and unrelated interviewed immigrants</a:t>
            </a:r>
            <a:endParaRPr b="0" lang="en-US" sz="2800" spc="-1" strike="noStrike">
              <a:solidFill>
                <a:srgbClr val="ffffff"/>
              </a:solidFill>
              <a:latin typeface="Garamond"/>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Perspectives of the US from those immigrants</a:t>
            </a:r>
            <a:endParaRPr b="0" lang="en-US" sz="2400" spc="-1" strike="noStrike">
              <a:solidFill>
                <a:srgbClr val="ffffff"/>
              </a:solidFill>
              <a:latin typeface="Garamond"/>
            </a:endParaRPr>
          </a:p>
          <a:p>
            <a:pPr marL="343080" indent="-34308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Family histories and trees of students</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thnographic maps of student body’s famili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563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Closure</a:t>
            </a:r>
            <a:endParaRPr b="1" lang="en-US" sz="4000" spc="-1" strike="noStrike">
              <a:solidFill>
                <a:srgbClr val="b9efee"/>
              </a:solidFill>
              <a:latin typeface="Garamond"/>
            </a:endParaRPr>
          </a:p>
        </p:txBody>
      </p:sp>
      <p:sp>
        <p:nvSpPr>
          <p:cNvPr id="145" name="PlaceHolder 2"/>
          <p:cNvSpPr>
            <a:spLocks noGrp="1"/>
          </p:cNvSpPr>
          <p:nvPr>
            <p:ph/>
          </p:nvPr>
        </p:nvSpPr>
        <p:spPr>
          <a:xfrm>
            <a:off x="0" y="762120"/>
            <a:ext cx="91440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From surveyed students, develop a map showing ethnic ancestries</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ummarize the student population</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y continent, by country</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y dates of immigration</a:t>
            </a:r>
            <a:endParaRPr b="0" lang="en-US" sz="2800" spc="-1" strike="noStrike">
              <a:solidFill>
                <a:srgbClr val="ffffff"/>
              </a:solidFill>
              <a:latin typeface="Garamond"/>
            </a:endParaRPr>
          </a:p>
          <a:p>
            <a:pPr marL="343080" indent="-343080">
              <a:lnSpc>
                <a:spcPct val="9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ntrast with ethnographic overview of the US showing similarities and contrasts</a:t>
            </a:r>
            <a:endParaRPr b="0" lang="en-US" sz="3200" spc="-1" strike="noStrike">
              <a:solidFill>
                <a:srgbClr val="ffffff"/>
              </a:solidFill>
              <a:latin typeface="Garamond"/>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rebuchet MS"/>
              </a:rPr>
              <a:t>CELEBRATE THE DIVERSITY</a:t>
            </a:r>
            <a:endParaRPr b="0" lang="en-US" sz="4400" spc="-1" strike="noStrike">
              <a:solidFill>
                <a:srgbClr val="ffffff"/>
              </a:solidFill>
              <a:latin typeface="Garamond"/>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rebuchet MS"/>
              </a:rPr>
              <a:t>THAT IS US &amp; </a:t>
            </a:r>
            <a:endParaRPr b="0" lang="en-US" sz="4400" spc="-1" strike="noStrike">
              <a:solidFill>
                <a:srgbClr val="ffffff"/>
              </a:solidFill>
              <a:latin typeface="Garamond"/>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rebuchet MS"/>
              </a:rPr>
              <a:t>THAT IS THE U.S.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716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Background</a:t>
            </a:r>
            <a:endParaRPr b="1" lang="en-US" sz="4000" spc="-1" strike="noStrike">
              <a:solidFill>
                <a:srgbClr val="b9efee"/>
              </a:solidFill>
              <a:latin typeface="Garamond"/>
            </a:endParaRPr>
          </a:p>
        </p:txBody>
      </p:sp>
      <p:sp>
        <p:nvSpPr>
          <p:cNvPr id="117" name="PlaceHolder 2"/>
          <p:cNvSpPr>
            <a:spLocks noGrp="1"/>
          </p:cNvSpPr>
          <p:nvPr>
            <p:ph/>
          </p:nvPr>
        </p:nvSpPr>
        <p:spPr>
          <a:xfrm>
            <a:off x="0" y="762120"/>
            <a:ext cx="9144000" cy="4876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arget:  7</a:t>
            </a:r>
            <a:r>
              <a:rPr b="0" lang="en-US" sz="2800" spc="-1" strike="noStrike" baseline="30000">
                <a:solidFill>
                  <a:srgbClr val="ffffff"/>
                </a:solidFill>
                <a:latin typeface="Trebuchet MS"/>
              </a:rPr>
              <a:t>th</a:t>
            </a:r>
            <a:r>
              <a:rPr b="0" lang="en-US" sz="2800" spc="-1" strike="noStrike">
                <a:solidFill>
                  <a:srgbClr val="ffffff"/>
                </a:solidFill>
                <a:latin typeface="Trebuchet MS"/>
              </a:rPr>
              <a:t> Grade Social Studies Student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y the Topic:</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njoin the high immigrant population of most of our school districts with:</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mergent identity issues for young adolescents, and</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intensifying national debate with the</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surgence of Nativism</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help students better understand, and t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acilitate their own acculturation &amp; identify formation processes and/or tolerance in a country wholly founded by immigrant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8" name=""/>
          <p:cNvSpPr/>
          <p:nvPr/>
        </p:nvSpPr>
        <p:spPr>
          <a:xfrm>
            <a:off x="0" y="5334120"/>
            <a:ext cx="91440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Trebuchet MS"/>
              </a:rPr>
              <a:t>All Americans are Immigrants …</a:t>
            </a:r>
            <a:endParaRPr b="0" lang="en-US" sz="3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Trebuchet MS"/>
              </a:rPr>
              <a:t>It’s Simply a Question of When they Arrive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Trebuchet MS"/>
              </a:rPr>
              <a:t>Topic Selection Criteria</a:t>
            </a:r>
            <a:r>
              <a:rPr b="1" lang="en-US" sz="4400" spc="-1" strike="noStrike">
                <a:solidFill>
                  <a:srgbClr val="b9efee"/>
                </a:solidFill>
                <a:latin typeface="Garamond"/>
              </a:rPr>
              <a:t> </a:t>
            </a:r>
            <a:endParaRPr b="1" lang="en-US" sz="4400" spc="-1" strike="noStrike">
              <a:solidFill>
                <a:srgbClr val="b9efee"/>
              </a:solidFill>
              <a:latin typeface="Garamond"/>
            </a:endParaRPr>
          </a:p>
        </p:txBody>
      </p:sp>
      <p:sp>
        <p:nvSpPr>
          <p:cNvPr id="120"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609480" indent="-609480">
              <a:lnSpc>
                <a:spcPct val="100000"/>
              </a:lnSpc>
              <a:spcBef>
                <a:spcPts val="799"/>
              </a:spcBef>
              <a:buClr>
                <a:srgbClr val="00ff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 Real World Issue?</a:t>
            </a:r>
            <a:endParaRPr b="0" lang="en-US" sz="32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ccelerating In-Migration</a:t>
            </a:r>
            <a:endParaRPr b="0" lang="en-US" sz="24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ativistic surge</a:t>
            </a:r>
            <a:endParaRPr b="0" lang="en-US" sz="24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istoric context of immigration &amp; how it can be used to promote inclusive understanding</a:t>
            </a:r>
            <a:endParaRPr b="0" lang="en-US" sz="2400" spc="-1" strike="noStrike">
              <a:solidFill>
                <a:srgbClr val="ffffff"/>
              </a:solidFill>
              <a:latin typeface="Garamond"/>
            </a:endParaRPr>
          </a:p>
          <a:p>
            <a:pPr marL="609480" indent="-609480">
              <a:lnSpc>
                <a:spcPct val="100000"/>
              </a:lnSpc>
              <a:spcBef>
                <a:spcPts val="799"/>
              </a:spcBef>
              <a:buClr>
                <a:srgbClr val="00ff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nteresting to Students?</a:t>
            </a:r>
            <a:endParaRPr b="0" lang="en-US" sz="32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12% of US population are immigrants</a:t>
            </a:r>
            <a:endParaRPr b="0" lang="en-US" sz="24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2% of US children are children of immigrants</a:t>
            </a:r>
            <a:endParaRPr b="0" lang="en-US" sz="24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adily relatable issues of Identity and Acculturation</a:t>
            </a:r>
            <a:endParaRPr b="0" lang="en-US" sz="2400" spc="-1" strike="noStrike">
              <a:solidFill>
                <a:srgbClr val="ffffff"/>
              </a:solidFill>
              <a:latin typeface="Garamond"/>
            </a:endParaRPr>
          </a:p>
          <a:p>
            <a:pPr marL="609480" indent="-609480">
              <a:lnSpc>
                <a:spcPct val="100000"/>
              </a:lnSpc>
              <a:spcBef>
                <a:spcPts val="799"/>
              </a:spcBef>
              <a:buClr>
                <a:srgbClr val="00ff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ase of access to first-hand information?</a:t>
            </a:r>
            <a:endParaRPr b="0" lang="en-US" sz="32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mily and friends </a:t>
            </a:r>
            <a:endParaRPr b="0" lang="en-US" sz="24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brary and Interne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Trebuchet MS"/>
              </a:rPr>
              <a:t>Topic Selection Criteria</a:t>
            </a:r>
            <a:endParaRPr b="1" lang="en-US" sz="4400" spc="-1" strike="noStrike">
              <a:solidFill>
                <a:srgbClr val="b9efee"/>
              </a:solidFill>
              <a:latin typeface="Garamond"/>
            </a:endParaRPr>
          </a:p>
        </p:txBody>
      </p:sp>
      <p:sp>
        <p:nvSpPr>
          <p:cNvPr id="122" name="PlaceHolder 2"/>
          <p:cNvSpPr>
            <a:spLocks noGrp="1"/>
          </p:cNvSpPr>
          <p:nvPr>
            <p:ph/>
          </p:nvPr>
        </p:nvSpPr>
        <p:spPr>
          <a:xfrm>
            <a:off x="151920" y="761760"/>
            <a:ext cx="8991720" cy="6095880"/>
          </a:xfrm>
          <a:prstGeom prst="rect">
            <a:avLst/>
          </a:prstGeom>
          <a:noFill/>
          <a:ln w="0">
            <a:noFill/>
          </a:ln>
        </p:spPr>
        <p:txBody>
          <a:bodyPr lIns="90000" rIns="90000" tIns="46800" bIns="46800" anchor="t">
            <a:normAutofit/>
          </a:bodyPr>
          <a:p>
            <a:pPr marL="609480" indent="-609480">
              <a:lnSpc>
                <a:spcPct val="100000"/>
              </a:lnSpc>
              <a:spcBef>
                <a:spcPts val="799"/>
              </a:spcBef>
              <a:buClr>
                <a:srgbClr val="00ff99"/>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ho can tell about their own experiences with the topic?</a:t>
            </a:r>
            <a:endParaRPr b="0" lang="en-US" sz="32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rents and Relatives</a:t>
            </a:r>
            <a:endParaRPr b="0" lang="en-US" sz="24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ildren themselves</a:t>
            </a:r>
            <a:endParaRPr b="0" lang="en-US" sz="2400" spc="-1" strike="noStrike">
              <a:solidFill>
                <a:srgbClr val="ffffff"/>
              </a:solidFill>
              <a:latin typeface="Garamond"/>
            </a:endParaRPr>
          </a:p>
          <a:p>
            <a:pPr marL="609480" indent="-609480">
              <a:lnSpc>
                <a:spcPct val="100000"/>
              </a:lnSpc>
              <a:spcBef>
                <a:spcPts val="799"/>
              </a:spcBef>
              <a:buClr>
                <a:srgbClr val="00ff99"/>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re there many questions the children will want to  ask?</a:t>
            </a:r>
            <a:endParaRPr b="0" lang="en-US" sz="32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ger to discuss viz., aforementioned reasons</a:t>
            </a:r>
            <a:endParaRPr b="0" lang="en-US" sz="2400" spc="-1" strike="noStrike">
              <a:solidFill>
                <a:srgbClr val="ffffff"/>
              </a:solidFill>
              <a:latin typeface="Garamond"/>
            </a:endParaRPr>
          </a:p>
          <a:p>
            <a:pPr marL="609480" indent="-609480">
              <a:lnSpc>
                <a:spcPct val="100000"/>
              </a:lnSpc>
              <a:spcBef>
                <a:spcPts val="799"/>
              </a:spcBef>
              <a:buClr>
                <a:srgbClr val="00ff99"/>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ill it help them understand one another?</a:t>
            </a:r>
            <a:endParaRPr b="0" lang="en-US" sz="32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BL Goal is to devise ways to facilitate understanding and broaden tolerance for the many people that comprise America, and to </a:t>
            </a:r>
            <a:endParaRPr b="0" lang="en-US" sz="2400" spc="-1" strike="noStrike">
              <a:solidFill>
                <a:srgbClr val="ffffff"/>
              </a:solidFill>
              <a:latin typeface="Garamond"/>
            </a:endParaRPr>
          </a:p>
        </p:txBody>
      </p:sp>
      <p:sp>
        <p:nvSpPr>
          <p:cNvPr id="123" name=""/>
          <p:cNvSpPr/>
          <p:nvPr/>
        </p:nvSpPr>
        <p:spPr>
          <a:xfrm>
            <a:off x="0" y="6019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rebuchet MS"/>
              </a:rPr>
              <a:t>Celebrate Our Diversity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Five Features, Three Phases</a:t>
            </a:r>
            <a:endParaRPr b="1" lang="en-US" sz="4000" spc="-1" strike="noStrike">
              <a:solidFill>
                <a:srgbClr val="b9efee"/>
              </a:solidFill>
              <a:latin typeface="Garamond"/>
            </a:endParaRPr>
          </a:p>
        </p:txBody>
      </p:sp>
      <p:graphicFrame>
        <p:nvGraphicFramePr>
          <p:cNvPr id="125" name=""/>
          <p:cNvGraphicFramePr/>
          <p:nvPr/>
        </p:nvGraphicFramePr>
        <p:xfrm>
          <a:off x="0" y="533520"/>
          <a:ext cx="9144000" cy="6316560"/>
        </p:xfrm>
        <a:graphic>
          <a:graphicData uri="http://schemas.openxmlformats.org/drawingml/2006/table">
            <a:tbl>
              <a:tblPr/>
              <a:tblGrid>
                <a:gridCol w="603360"/>
                <a:gridCol w="2673360"/>
                <a:gridCol w="3201840"/>
                <a:gridCol w="2665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Beginni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Developi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Concludi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rowSpan="3">
                  <a: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ea typeface="Times New Roman"/>
                        </a:rPr>
                        <a:t>Discussion</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Discuss their own cultural identit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Research groups currently in Americ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Instigate discussion of broad, inclusive theme “All Americans are Immigrant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Prepare questions for interview – definition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Students play oral history tapes of interviews with parents and relativ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8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Stimulate research into other places largely settled by immigrants (i.e., Australia, Central &amp; South America, Iceland, Pacific Island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Font typeface="Wingdings" charset="2"/>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America has the most ethnically diverse population of any nation on earth</a:t>
                      </a:r>
                      <a:endParaRPr b="0" lang="en-US" sz="1800" spc="-1" strike="noStrike">
                        <a:solidFill>
                          <a:srgbClr val="ffffff"/>
                        </a:solidFill>
                        <a:latin typeface="Arial"/>
                      </a:endParaRPr>
                    </a:p>
                    <a:p>
                      <a:pPr>
                        <a:lnSpc>
                          <a:spcPct val="100000"/>
                        </a:lnSpc>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ingdings" charset="2"/>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Research history of immigration waves to America – from the 3 waves of “Native Americans” thru the Colonial Period, Westward expansion, the waves of 1848, 1860, 1910 and the present time – from where they cam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Report out on their findings</a:t>
                      </a:r>
                      <a:endParaRPr b="0" lang="en-US" sz="1800" spc="-1" strike="noStrike">
                        <a:solidFill>
                          <a:srgbClr val="ffffff"/>
                        </a:solidFill>
                        <a:latin typeface="Arial"/>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 </a:t>
                      </a:r>
                      <a:r>
                        <a:rPr b="1" lang="en-US" sz="1800" spc="-1" strike="noStrike">
                          <a:solidFill>
                            <a:srgbClr val="ffffff"/>
                          </a:solidFill>
                          <a:latin typeface="Trebuchet MS"/>
                          <a:ea typeface="Times New Roman"/>
                        </a:rPr>
                        <a:t>Display maps showing in-migrations and the changing sources of the immigrants thru time</a:t>
                      </a:r>
                      <a:endParaRPr b="0" lang="en-US" sz="1800" spc="-1" strike="noStrike">
                        <a:solidFill>
                          <a:srgbClr val="ffffff"/>
                        </a:solidFill>
                        <a:latin typeface="Arial"/>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Develop ethnographic maps of their student bod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600" cy="563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Five Features, Three Phases</a:t>
            </a:r>
            <a:endParaRPr b="1" lang="en-US" sz="4000" spc="-1" strike="noStrike">
              <a:solidFill>
                <a:srgbClr val="b9efee"/>
              </a:solidFill>
              <a:latin typeface="Garamond"/>
            </a:endParaRPr>
          </a:p>
        </p:txBody>
      </p:sp>
      <p:graphicFrame>
        <p:nvGraphicFramePr>
          <p:cNvPr id="127" name=""/>
          <p:cNvGraphicFramePr/>
          <p:nvPr/>
        </p:nvGraphicFramePr>
        <p:xfrm>
          <a:off x="0" y="914400"/>
          <a:ext cx="9144000" cy="5591160"/>
        </p:xfrm>
        <a:graphic>
          <a:graphicData uri="http://schemas.openxmlformats.org/drawingml/2006/table">
            <a:tbl>
              <a:tblPr/>
              <a:tblGrid>
                <a:gridCol w="603360"/>
                <a:gridCol w="3209760"/>
                <a:gridCol w="2665440"/>
                <a:gridCol w="2665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Times New Roman"/>
                        </a:rPr>
                        <a:t>Beginning</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Times New Roman"/>
                        </a:rPr>
                        <a:t>Developing</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Times New Roman"/>
                        </a:rPr>
                        <a:t>Concluding</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rowSpan="3">
                  <a: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ea typeface="Times New Roman"/>
                        </a:rPr>
                        <a:t>Field Work</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Interview relativ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evelop tap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Play oral history tapes of interviews with relativ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iscuss the history of immigration to the U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Visit Ellis Island</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isplay material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Gather family and historic Photo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evelop albums and posters of photo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Play oral history tapes of interviews with immigrants in their town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8040">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Times New Roman"/>
                        </a:rPr>
                        <a:t>Represent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iscuss and identify potential immigrant interviewees in town with interesting stories to tel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Students gather photos and/or diaries of ancesto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Interview immigrants in their town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evelop common storylin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velop family photo albums and/or diari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evelop video/audio collages of the interviews and them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isplay photo albums/diari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Five Features, Three Phases</a:t>
            </a:r>
            <a:endParaRPr b="1" lang="en-US" sz="4000" spc="-1" strike="noStrike">
              <a:solidFill>
                <a:srgbClr val="b9efee"/>
              </a:solidFill>
              <a:latin typeface="Garamond"/>
            </a:endParaRPr>
          </a:p>
        </p:txBody>
      </p:sp>
      <p:graphicFrame>
        <p:nvGraphicFramePr>
          <p:cNvPr id="129" name=""/>
          <p:cNvGraphicFramePr/>
          <p:nvPr/>
        </p:nvGraphicFramePr>
        <p:xfrm>
          <a:off x="0" y="533520"/>
          <a:ext cx="9144000" cy="6708600"/>
        </p:xfrm>
        <a:graphic>
          <a:graphicData uri="http://schemas.openxmlformats.org/drawingml/2006/table">
            <a:tbl>
              <a:tblPr/>
              <a:tblGrid>
                <a:gridCol w="517680"/>
                <a:gridCol w="2590560"/>
                <a:gridCol w="3041640"/>
                <a:gridCol w="29941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Times New Roman"/>
                        </a:rPr>
                        <a:t>Beginning</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Times New Roman"/>
                        </a:rPr>
                        <a:t>Developing</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Times New Roman"/>
                        </a:rPr>
                        <a:t>Concluding</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8520">
                <a:tc rowSpan="3">
                  <a:txBody>
                    <a:bodyPr lIns="90000" rIns="90000" tIns="46800" bIns="46800" anchor="t" vert="eaVe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Investiga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Explore Nationality v. Ethnicit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e.g., A child born in the US w/ East Indian parents has a American nationality, but is of Indian ethnicity</a:t>
                      </a:r>
                      <a:br>
                        <a:rPr sz="1800"/>
                      </a:br>
                      <a:br>
                        <a:rPr sz="1800"/>
                      </a:b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Have students map their respective nationalities and ethniciti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Develop questions that explore the reasons why immigrants settle in certain locations (antecedents, geography, economy, etc.)</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People have migrated all over the world, throughout humanity’s deepest histor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Research how DNA analysis has helped us better understand our individual genetic histories from the places our ancestors lived that are represented in our genes (e.g., National Geographic's project, The Seven Daughters of Eve, Cavalli Sforza, et 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716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Five Features, Three Phases</a:t>
            </a:r>
            <a:endParaRPr b="1" lang="en-US" sz="4000" spc="-1" strike="noStrike">
              <a:solidFill>
                <a:srgbClr val="b9efee"/>
              </a:solidFill>
              <a:latin typeface="Garamond"/>
            </a:endParaRPr>
          </a:p>
        </p:txBody>
      </p:sp>
      <p:graphicFrame>
        <p:nvGraphicFramePr>
          <p:cNvPr id="131" name=""/>
          <p:cNvGraphicFramePr/>
          <p:nvPr/>
        </p:nvGraphicFramePr>
        <p:xfrm>
          <a:off x="0" y="685800"/>
          <a:ext cx="9144000" cy="6171840"/>
        </p:xfrm>
        <a:graphic>
          <a:graphicData uri="http://schemas.openxmlformats.org/drawingml/2006/table">
            <a:tbl>
              <a:tblPr/>
              <a:tblGrid>
                <a:gridCol w="474840"/>
                <a:gridCol w="1582560"/>
                <a:gridCol w="3505320"/>
                <a:gridCol w="3581280"/>
              </a:tblGrid>
              <a:tr h="825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Times New Roman"/>
                        </a:rPr>
                        <a:t>Beginning</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Times New Roman"/>
                        </a:rPr>
                        <a:t>Developing</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Times New Roman"/>
                        </a:rPr>
                        <a:t>Concluding</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0920">
                <a:tc rowSpan="2">
                  <a: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Display</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Interview relativ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evelop tap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Play tap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5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Family histories and tre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Family Tre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Color Coded ethnographic maps </a:t>
                      </a:r>
                      <a:r>
                        <a:rPr b="1" i="1" lang="en-US" sz="1600" spc="-1" strike="noStrike">
                          <a:solidFill>
                            <a:srgbClr val="ffffff"/>
                          </a:solidFill>
                          <a:latin typeface="Trebuchet MS"/>
                          <a:ea typeface="Times New Roman"/>
                        </a:rPr>
                        <a:t>(see Interactive Activity under Present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Examine the history of how immigrants were ‘welcomed’ </a:t>
                      </a:r>
                      <a:endParaRPr b="0" lang="en-US" sz="16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The Nativist tradition and assimilation</a:t>
                      </a:r>
                      <a:endParaRPr b="0" lang="en-US" sz="16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Research how America has adopted the ‘ethnic’ foods  and cultural elements of its newcomer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 </a:t>
                      </a:r>
                      <a:r>
                        <a:rPr b="1" lang="en-US" sz="1600" spc="-1" strike="noStrike">
                          <a:solidFill>
                            <a:srgbClr val="ffffff"/>
                          </a:solidFill>
                          <a:latin typeface="Trebuchet MS"/>
                          <a:ea typeface="Times New Roman"/>
                        </a:rPr>
                        <a:t>Display ethnographic maps of America today - where we came from (e.g., % England, Ireland, France, Spain, Italy, China, India, Mexico, etc.)</a:t>
                      </a:r>
                      <a:br>
                        <a:rPr sz="1600"/>
                      </a:br>
                      <a:r>
                        <a:rPr b="1" lang="en-US" sz="1600" spc="-1" strike="noStrike">
                          <a:solidFill>
                            <a:srgbClr val="ffffff"/>
                          </a:solidFill>
                          <a:latin typeface="Trebuchet MS"/>
                        </a:rPr>
                        <a:t> </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Excerpt clips from films dealing with the immigrant experience, e.g. (The Perez Family, Gangs of New York, Far and Away, etc.)</a:t>
                      </a:r>
                      <a:br>
                        <a:rPr sz="1600"/>
                      </a:br>
                      <a:r>
                        <a:rPr b="1" lang="en-US" sz="1600" spc="-1" strike="noStrike">
                          <a:solidFill>
                            <a:srgbClr val="ffffff"/>
                          </a:solidFill>
                          <a:latin typeface="Trebuchet MS"/>
                        </a:rPr>
                        <a:t> </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List foods (w/ pictures?) we take as everyday today, but have immigrant roots (e.g., bagels, tacos, pizza, hot dogs, fried chicken, etc.)</a:t>
                      </a:r>
                      <a:br>
                        <a:rPr sz="1600"/>
                      </a:br>
                      <a:r>
                        <a:rPr b="1" lang="en-US" sz="1600" spc="-1" strike="noStrike">
                          <a:solidFill>
                            <a:srgbClr val="ffffff"/>
                          </a:solidFill>
                          <a:latin typeface="Trebuchet MS"/>
                        </a:rPr>
                        <a:t> </a:t>
                      </a:r>
                      <a:endParaRPr b="0" lang="en-US" sz="16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rebuchet MS"/>
                          <a:ea typeface="Times New Roman"/>
                        </a:rPr>
                        <a:t>Celebrate our diversit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0"/>
            <a:ext cx="8229600" cy="792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Trebuchet MS"/>
              </a:rPr>
              <a:t>Technology</a:t>
            </a:r>
            <a:endParaRPr b="1" lang="en-US" sz="4400" spc="-1" strike="noStrike">
              <a:solidFill>
                <a:srgbClr val="b9efee"/>
              </a:solidFill>
              <a:latin typeface="Garamond"/>
            </a:endParaRPr>
          </a:p>
        </p:txBody>
      </p:sp>
      <p:sp>
        <p:nvSpPr>
          <p:cNvPr id="133" name="PlaceHolder 2"/>
          <p:cNvSpPr>
            <a:spLocks noGrp="1"/>
          </p:cNvSpPr>
          <p:nvPr>
            <p:ph/>
          </p:nvPr>
        </p:nvSpPr>
        <p:spPr>
          <a:xfrm>
            <a:off x="0" y="762120"/>
            <a:ext cx="9144000" cy="5867280"/>
          </a:xfrm>
          <a:prstGeom prst="rect">
            <a:avLst/>
          </a:prstGeom>
          <a:noFill/>
          <a:ln w="0">
            <a:noFill/>
          </a:ln>
        </p:spPr>
        <p:txBody>
          <a:bodyPr lIns="90000" rIns="90000" tIns="46800" bIns="46800"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Used extensively in each feature &amp; phase of the PBL</a:t>
            </a:r>
            <a:endParaRPr b="0" lang="en-US" sz="2800" spc="-1" strike="noStrike">
              <a:solidFill>
                <a:srgbClr val="ffffff"/>
              </a:solidFill>
              <a:latin typeface="Garamond"/>
            </a:endParaRPr>
          </a:p>
          <a:p>
            <a:pPr marL="329040" indent="-32904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iscussion</a:t>
            </a:r>
            <a:endParaRPr b="0" lang="en-US" sz="2800" spc="-1" strike="noStrike">
              <a:solidFill>
                <a:srgbClr val="ffffff"/>
              </a:solidFill>
              <a:latin typeface="Garamond"/>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Telephone to contact relatives &amp; friends</a:t>
            </a:r>
            <a:endParaRPr b="0" lang="en-US" sz="2400" spc="-1" strike="noStrike">
              <a:solidFill>
                <a:srgbClr val="ffffff"/>
              </a:solidFill>
              <a:latin typeface="Garamond"/>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Wiki to collaborate w/ group members</a:t>
            </a:r>
            <a:endParaRPr b="0" lang="en-US" sz="2400" spc="-1" strike="noStrike">
              <a:solidFill>
                <a:srgbClr val="ffffff"/>
              </a:solidFill>
              <a:latin typeface="Garamond"/>
            </a:endParaRPr>
          </a:p>
          <a:p>
            <a:pPr marL="329040" indent="-32904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Field Work</a:t>
            </a:r>
            <a:endParaRPr b="0" lang="en-US" sz="2800" spc="-1" strike="noStrike">
              <a:solidFill>
                <a:srgbClr val="ffffff"/>
              </a:solidFill>
              <a:latin typeface="Garamond"/>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Tape recorders, MP3s, PCs w/ mics</a:t>
            </a:r>
            <a:endParaRPr b="0" lang="en-US" sz="2400" spc="-1" strike="noStrike">
              <a:solidFill>
                <a:srgbClr val="ffffff"/>
              </a:solidFill>
              <a:latin typeface="Garamond"/>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Video/web cams &amp; cell phones</a:t>
            </a:r>
            <a:endParaRPr b="0" lang="en-US" sz="2400" spc="-1" strike="noStrike">
              <a:solidFill>
                <a:srgbClr val="ffffff"/>
              </a:solidFill>
              <a:latin typeface="Garamond"/>
            </a:endParaRPr>
          </a:p>
          <a:p>
            <a:pPr marL="329040" indent="-32904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presentation</a:t>
            </a:r>
            <a:endParaRPr b="0" lang="en-US" sz="2800" spc="-1" strike="noStrike">
              <a:solidFill>
                <a:srgbClr val="ffffff"/>
              </a:solidFill>
              <a:latin typeface="Garamond"/>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PC w/ photo editing software to compile albums &amp; collages</a:t>
            </a:r>
            <a:endParaRPr b="0" lang="en-US" sz="2400" spc="-1" strike="noStrike">
              <a:solidFill>
                <a:srgbClr val="ffffff"/>
              </a:solidFill>
              <a:latin typeface="Garamond"/>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Printers to produce hard copies for displays</a:t>
            </a:r>
            <a:endParaRPr b="0" lang="en-US" sz="2400" spc="-1" strike="noStrike">
              <a:solidFill>
                <a:srgbClr val="ffffff"/>
              </a:solidFill>
              <a:latin typeface="Garamond"/>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DVRs/VCRs to capture clips from films &amp; documentaries</a:t>
            </a:r>
            <a:endParaRPr b="0" lang="en-US" sz="2400" spc="-1" strike="noStrike">
              <a:solidFill>
                <a:srgbClr val="ffffff"/>
              </a:solidFill>
              <a:latin typeface="Garamond"/>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13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13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22:08:28Z</dcterms:created>
  <dc:creator>Sal</dc:creator>
  <dc:description/>
  <dc:language>en-US</dc:language>
  <cp:lastModifiedBy>Sal</cp:lastModifiedBy>
  <dcterms:modified xsi:type="dcterms:W3CDTF">2008-06-06T20:36:50Z</dcterms:modified>
  <cp:revision>9</cp:revision>
  <dc:subject/>
  <dc:title>Showcase Presentation Immigration …</dc:title>
</cp:coreProperties>
</file>